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A2F-CCB4-4DC0-A8F2-1D4D6097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C08-CFC9-4A04-99C3-708B8C4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60A53-F753-48A8-9B6F-D1E6C459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C5102-9F0A-44D2-A39C-E0F1934B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B9664-D245-486A-8178-38EDE188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13B0C-2459-4E57-AF85-073F65C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78E09-F4DF-4AE4-A481-F4B07B3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17ACB-811C-46E1-93EC-BF2CA81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569F0-EE9A-4E63-BADF-E6A5274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0019A-A69C-4F59-98EA-7A7482FB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3F587-2883-49F4-AD33-76692F46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68B53-B1F0-4A11-9516-6E076E3D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F02-DEFA-4BD6-8A46-95395E54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3489D-E9B3-447D-B3F6-D65F0ED8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AB0C1-CD7E-46B2-80FE-06198AB8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198DF-5099-4C16-ABC0-F93D0FA2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12994-DB24-4FFB-924E-B3D758F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FBF58-243B-45F5-9C01-7C7A661A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9EB3B-55C7-48D2-8C15-A12E55A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AB8E7-614A-41CD-B467-6069EB7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59578-E250-45DC-9738-AE90A5B6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E7F68-156F-436F-A373-6690109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07084-C2BE-4F6B-844B-1B0E73C4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09D-E0B5-4A4D-804C-44CD4393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389BD-44C7-4CF1-9793-85E371A0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84E47-EE4A-4B90-BF99-8FDC1964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6640-A82E-4385-805E-CC964D6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4C06-2E42-405B-A789-1C1F3327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46178-7926-404A-995C-1070C367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2DB12-AEA3-4499-9889-DC9A431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9B367-B0EB-47AD-B5B8-7B6E22B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A3ADA-5DCD-4FA3-BD30-F041938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DE6DF-89B5-4816-A7B4-36B42F1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B6BD-D40A-471F-B9D1-ECD98E60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88E-FDA3-490C-9E5E-430B4498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29DA6-D9FC-462B-A96E-C4082FD5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7EADA-A02D-4C03-B738-1EB9427C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1B215-2B38-435D-BD66-028BBDCF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DB484-8E28-4B92-A55C-E23CF1B5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9C76B-2F2D-4B17-93D2-0FE83985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3C287-47CB-4804-B012-7CC4649F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CF334-B11E-4AE0-AB10-4CA2306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4059D-49A6-410A-87F2-DFFB7CE2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73D46-B3DC-4F24-839F-8250B522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4612-BDE5-45A3-A97D-13F00AF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D11E-BE7D-4E4A-A1B9-B28C336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93182-3D76-4076-93AB-21B8A7A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4C739-B7F9-4CCB-860E-7FA4B9CC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08837-C82D-43F1-AAD2-FAA1DF22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1E8FF-54DB-46C6-8EC6-A1504D65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3403C-ED79-47AA-A4ED-CD42CFC3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BF2A-3FEA-4A38-B5AF-D67E4CED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9093B-69F0-471E-9F34-9EAB4F6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51D45-6F83-412A-8ECC-838AC20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E9FB2-B4CE-4C15-AB7B-D4E4C756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49191-6968-419B-A461-0B703A64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4382-5869-4974-A283-D5E7C07F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A5FEC-AAB1-4D17-A2AC-752CF7E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46046-3812-4184-AC51-D20E30A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F21A3-9FAF-48A0-BBC8-FA2F464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B9B90-8B7F-404F-80EE-B023D52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3EB65-F638-48C6-AD47-19092CB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F2AAB-BABE-47C9-85B6-555B401B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08440-C199-42B5-8CDC-19805962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65D82-21C7-4576-A21C-16A15167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B8CA3-1B43-464E-A827-43EC110A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3B2B3-D30B-4255-8F1B-6F71287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903-40A7-4A3F-A2F5-8939BE32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CB798-901D-408D-BA9D-7724FEBA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ACA1B-43A4-48AC-96D3-BFD78294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F64D1-F073-4CE4-B59B-448AB068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272C4-22F8-47F2-9B4F-D532B1C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75AB6-E045-4D07-B52B-F5848AF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4876B-64C6-4A33-AA21-73ACF8E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DF6E5-2775-4027-AABF-0910288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604A4-097B-4FAA-A12A-5E00BFE2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06AB0-1832-4850-B864-255359E9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0580D-E87D-4A23-882D-C7374442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9CB6-71F6-4C45-A662-F37F9E66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3BDE0-9C17-431F-9F42-F2B5F6D5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74126-0E49-4CE7-8AB6-965153D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2B3FA-A2C4-4A79-8629-2B15117A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8274E-37B6-46D9-92EB-088CB45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81D41-7265-4623-A25B-790FDFE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5BDC2-93BB-408A-8697-FC82145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38CB5-51D9-46DD-A285-D002D32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DDB94-E1F9-4242-9803-B8C5560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F1205-7F4D-4C91-B713-6BB2B27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9A21A-80FD-412A-84BE-A22CC004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2A99-AD3B-40A6-AE36-E400ED2F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8BC74-D865-4A81-B003-4B5ED61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F6DCE-0FD5-4104-B470-EA92A5B3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57B26-E48C-4606-8AF1-43C3C0F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6E755-8B77-4C9E-8F78-401FC43E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D152B-3FFD-4876-8A2C-2FD1C2CC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B0F93-7536-4B83-9D96-F767AA5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F4D7B-43FD-48D8-93B4-049E5825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F12D8-0EA2-42C6-9CE0-05F54DE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5B1BA-A0B6-4189-BC6F-9F8466F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6AB8B-6701-4A18-8AB5-1DFBEF7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A8C6-017E-4AC2-BFF1-B1EAE65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2C229-1304-41B6-AE4F-7F2CF77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A21C3-D31B-4821-938A-86C9095A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EB2EB-8771-4CD3-AE00-64DB7203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D4A-5BB2-4C0F-8741-38B97BB8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57A0-945D-43D5-A838-C4D6B8C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CD91-87C7-4A1A-B53A-FD62AB2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9E3-1F5F-43A2-8401-51D16FCD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77E-E377-4816-B2A1-26D152BA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3FA7-1579-495A-9FC5-1C5C2E8E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2284-3402-4EFC-A4A4-5106F355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3042-FAEB-4441-9012-E25D4F35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0DCD-CA56-4AB9-975E-EECBA7D8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311C-9819-4867-A357-5827954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A47D-2B5B-4BD7-85D4-BBB0F74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9DB-2A73-4ADE-8745-CF553496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5E98-2834-4D1B-A0A3-F35447C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2970-BBDA-49B0-B1DE-CF77032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1EF0-5C51-45D0-ADDE-3EDDB68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4BE2-B611-4B37-AA6A-E43DC3E1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1C27-3237-4FCE-A84A-86C5727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4B24-3A81-44C4-98B5-C3538ADA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2B07-3DDB-45DB-B3AF-45EE412C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9E38-9B96-4D1C-ADA8-66FD392C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671B-BB58-4582-A8EF-FDDB1D56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B0FA-E7DB-4108-AC18-C72E678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326-D134-41DE-992B-999D6D20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8E59-6987-4D81-A696-14AB730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1D0E-03AB-43FD-9D98-CF56277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A1CA-F539-4E0E-B5BB-E36695B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67D2-C727-4879-BA2F-BEEE157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2429-5E88-4662-BA02-A07B5BF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14BB-2B86-48B1-B375-AF3824C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FA86-84BE-4456-A68F-56638673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3158-5602-44D3-858A-4DCAB24A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2977-5CA8-4800-BBFD-F1B16D31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05EF-58A1-48B5-9636-C71379C1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DEA-E2CD-4DC6-8E67-4454C9E2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AA7F-F26D-4DE6-80A9-350D50B7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9A0F-7F37-47ED-84EB-E6DC6A22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BE4F-4B1B-4B83-9120-11E17227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8934-8B0C-4A83-B6E1-7040A54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FA0C-957A-4A49-B551-46454C48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BAB1-A46F-4240-9E9D-0639E2A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B1D39-6F66-4257-988A-8709651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C4889-23E3-48A2-85AC-E9C95D79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3090-AEDD-4DDC-96AA-4B1B351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9339B-7C09-4613-BF14-9F3B3E03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1D0-A24F-4EC3-86F7-3DCB699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9EE9-4663-4A3B-A3B7-4F2B2276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D167C-AE92-4971-8626-C4552608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CC74-784A-492A-98A9-1FA2093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B2D9-AE9E-47B4-A2C2-8396EBB6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7E17-20A2-4C9F-8096-1969F3C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01DEE-505B-442F-860E-9B7C501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EB023-354F-4883-8A81-86875B49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79C6-445D-4F34-BDE2-43F412C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C9A8-73A9-4812-85C3-A98A266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D09E-AA85-4458-8CCC-E001EC1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890-AB77-4A4C-99C2-9C57091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CD25-0FFC-4BD6-B44D-4AA722A4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A306-8337-4D21-AF3A-D8BC144E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4178-B777-417C-BC41-D4682163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738B2-9F31-4E37-8F90-03A38A7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D6BAC-5287-41F1-A9B1-3CF79CFF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938B-7BF3-4A4C-B6DB-A2BDF42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8BCF-EA8A-4833-9CE2-1D1F7B80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AFA5-AC16-4FAC-A92B-57E66590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BA64-F048-41AE-B915-DEED8F6E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1999-50AB-4371-A7A7-CCB7D91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99C-F3A8-4B98-962E-D743496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9FD0-A1B7-4BD1-8BE6-CE85FA6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1578-4BC0-4E8A-BAA1-6E4E9DB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B499-580C-4D73-9699-6D5331D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588D4-3B21-45B7-875C-1FAD78E0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B3B7-6B82-4207-9AF9-09AD9284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2563-F29D-4B22-BC0D-D101F524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A357-DBC5-45A6-9FFE-AFED0880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6BBF-E793-4D37-894F-34861339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5C740-7B42-4AA9-A926-5EF94F79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13D25-CA0B-4C00-97C1-55C8AD3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B24-38E4-4414-BDDC-4DF7064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D6A3-C101-43EA-A768-64EF4008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880D-4280-4F4D-94CF-C7CE126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B169-FB9E-4345-A6F5-CBC1D437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F0F5-310D-47C8-97DC-C7369A5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EA56C-EA4E-42C9-957F-59FD2F57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54D17-5A9C-408F-8468-CD689242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6F41-E6B6-4E54-B3B4-5F04D901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51146-91B0-46E8-9FAA-BAFA6774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B8971-5D4E-4B2B-B553-EA928A6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53BD5-8AD4-4826-8399-80851F29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7DE66-0A05-4ED1-B2D6-9D215042CAB4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007D8-8A50-44F3-BF82-297867488C23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91862-3403-4212-8D93-5EA22D6FEA5B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B4535-4627-4C8B-B39A-71FBEBF89FCC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79694-C864-43B9-83EA-47E87A858D53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F0815-D2EC-4CF2-9415-687E34CCCFE7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BC54E-0BD1-44D0-A15B-A36A3DB32F83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2D26B-4CCF-42AC-A3A7-E8BEC17ADF8B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B46A4-8642-43C5-ACA7-08C85ABEAD60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4FC84-0FAD-4CFB-97E9-8AD05313C7B2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DAEE0-6626-4B46-B272-E25FDC3D1DBB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45B53-B5D4-435E-97F6-69788FE2B9C6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7C5AA-5422-47AF-908B-4A93BC55CDDC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883DA-6A21-4347-A336-376989952904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0399A-DE92-4BDE-B099-796F1E931C4A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45A74-6064-4A18-AAB4-4881D166A7B3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Users/jeronimoontiverosperez/Desktop/CTE%202013-2014/1.%20Encuadre%20CTE%202013-2014/CTE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301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  <a:ea typeface="Arial"/>
              </a:rPr>
              <a:t>Subcoordinación de Gestión Educ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>
            <a:off x="214200" y="12319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66840" y="138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4 CuadroTexto"/>
          <p:cNvSpPr/>
          <p:nvPr/>
        </p:nvSpPr>
        <p:spPr>
          <a:xfrm>
            <a:off x="598320" y="118440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"/>
              </a:rPr>
              <a:t>Todos los participantes deberán de presentarse con los siguientes materi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4 CuadroTexto"/>
          <p:cNvSpPr/>
          <p:nvPr/>
        </p:nvSpPr>
        <p:spPr>
          <a:xfrm>
            <a:off x="844560" y="2816280"/>
            <a:ext cx="768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  <a:ea typeface="Arial"/>
              </a:rPr>
              <a:t>Plan y Programas de Estudio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  <a:ea typeface="Arial"/>
              </a:rPr>
              <a:t>Acuerdos: 648 y 6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  <a:ea typeface="Arial"/>
              </a:rPr>
              <a:t>Planeación didáctica desarrollada en el ciclo escolar 2012-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58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6 Rectángulo"/>
          <p:cNvSpPr/>
          <p:nvPr/>
        </p:nvSpPr>
        <p:spPr>
          <a:xfrm>
            <a:off x="0" y="-324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7 CuadroTexto"/>
          <p:cNvSpPr/>
          <p:nvPr/>
        </p:nvSpPr>
        <p:spPr>
          <a:xfrm>
            <a:off x="324000" y="836640"/>
            <a:ext cx="8496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</a:rPr>
              <a:t>El Consejo Técnico Escolar: una ocasión para el desarrollo profesional docente y la mejora de la escue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Ciclo escolar 2013-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62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6 Rectángulo"/>
          <p:cNvSpPr/>
          <p:nvPr/>
        </p:nvSpPr>
        <p:spPr>
          <a:xfrm>
            <a:off x="0" y="-324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7 CuadroTexto"/>
          <p:cNvSpPr/>
          <p:nvPr/>
        </p:nvSpPr>
        <p:spPr>
          <a:xfrm>
            <a:off x="324000" y="836640"/>
            <a:ext cx="8496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Propósit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visar de forma permanente el logro de aprendizajes de los alumnos e identificar los retos que debe superar la escuela para promover su mej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lanear, dar seguimiento y evaluar las acciones de la escuela dirigidas a mejorar el logro de aprendizaje de los alumnos, aprovechando los recursos disponibles dentro y fuera del centro esc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Fomentar el desarrollo profesional de los maestros y directivos de la escuela, en función de las prioridades educ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66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 Rectángulo"/>
          <p:cNvSpPr/>
          <p:nvPr/>
        </p:nvSpPr>
        <p:spPr>
          <a:xfrm>
            <a:off x="0" y="-324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7 CuadroTexto"/>
          <p:cNvSpPr/>
          <p:nvPr/>
        </p:nvSpPr>
        <p:spPr>
          <a:xfrm>
            <a:off x="324000" y="1239840"/>
            <a:ext cx="8700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Consejo Técnico Escolar 2013-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Para la fase intensiva de los Consejos Técnicos Escolares, previa al inicio del ciclo escolar 2013–2014, la propuesta se organiza en cinco sesiones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1. ¿Por qué dar nueva vida al Consejo Técnico Esc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2. Construyendo una Cultura de Evaluación Formativa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3. Construyendo una Cultura de Evaluación Formativa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4. Mejorar nuestra escuela desde los 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5. ¿Con qué nos compromet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70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3 CuadroTexto"/>
          <p:cNvSpPr/>
          <p:nvPr/>
        </p:nvSpPr>
        <p:spPr>
          <a:xfrm>
            <a:off x="0" y="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36440" y="888840"/>
          <a:ext cx="9014040" cy="5186520"/>
        </p:xfrm>
        <a:graphic>
          <a:graphicData uri="http://schemas.openxmlformats.org/drawingml/2006/table">
            <a:tbl>
              <a:tblPr/>
              <a:tblGrid>
                <a:gridCol w="4006800"/>
                <a:gridCol w="50072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ni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duc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cuadre del C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ón 1:  ¿Por qué dar nueva vida al Consejo Técnico Escolar? (día 1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gistro de tareas para la organización y funcionamiento del C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stado con preguntas para atender el primer propósito del CT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ones 2 y 3: Construyendo u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ultura de Evaluación Formativa I y II. (días 2, 3 y 4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nificación Evalua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úbrica Analít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ón 4: Mejorar nuestra escuela desde los cimientos. (día 5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sta de rasgos de la normalidad mínima escolar a fortalecer en su escuela en este ciclo esco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sta de temas a abordar en las sesiones de C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ón 5: ¿Con qué nos comprometemos? (día 5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uta de mejora desde y para la escuel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1 CuadroTexto"/>
          <p:cNvSpPr/>
          <p:nvPr/>
        </p:nvSpPr>
        <p:spPr>
          <a:xfrm>
            <a:off x="299880" y="1515960"/>
            <a:ext cx="855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n Consejos Técnicos Escolares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) Comprensión del plan de estudios y conocimiento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b) Actividades de aprendizaje para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En CE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onstruyendo una cultura de evaluación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1 CuadroTexto"/>
          <p:cNvSpPr/>
          <p:nvPr/>
        </p:nvSpPr>
        <p:spPr>
          <a:xfrm>
            <a:off x="425520" y="593892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TE – Temática transversal 60%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nstruyendo la normalidad mínima esco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cesidades específicas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Rectángulo redondeado"/>
          <p:cNvSpPr/>
          <p:nvPr/>
        </p:nvSpPr>
        <p:spPr>
          <a:xfrm>
            <a:off x="125280" y="3705120"/>
            <a:ext cx="2633760" cy="17020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Agosto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Present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CEB-C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¿Por qué dar nueva vida al C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4 Proceso alternativo"/>
          <p:cNvSpPr/>
          <p:nvPr/>
        </p:nvSpPr>
        <p:spPr>
          <a:xfrm>
            <a:off x="2887560" y="3705120"/>
            <a:ext cx="2600280" cy="1702080"/>
          </a:xfrm>
          <a:prstGeom prst="flowChartAlternateProcess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Agosto 13, 14 y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Construyendo una cultura de Evaluación Formativa I 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7 Rectángulo redondeado"/>
          <p:cNvSpPr/>
          <p:nvPr/>
        </p:nvSpPr>
        <p:spPr>
          <a:xfrm>
            <a:off x="5992920" y="3807000"/>
            <a:ext cx="2892240" cy="2765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Calibri"/>
                <a:ea typeface="Arial"/>
              </a:rPr>
              <a:t>Agosto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Calibri"/>
                <a:ea typeface="Arial"/>
              </a:rPr>
              <a:t>Mejorar nuestra escuela desde los 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Calibri"/>
                <a:ea typeface="Arial"/>
              </a:rPr>
              <a:t>¿Con qué nos compromet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5 Rectángulo"/>
          <p:cNvSpPr/>
          <p:nvPr/>
        </p:nvSpPr>
        <p:spPr>
          <a:xfrm>
            <a:off x="1001880" y="2554200"/>
            <a:ext cx="3514680" cy="85104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Calibri"/>
              </a:rPr>
              <a:t>En C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9 Rectángulo"/>
          <p:cNvSpPr/>
          <p:nvPr/>
        </p:nvSpPr>
        <p:spPr>
          <a:xfrm>
            <a:off x="6281640" y="2617920"/>
            <a:ext cx="2316240" cy="850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Calibri"/>
              </a:rPr>
              <a:t>En Centro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6 Rectángulo redondeado"/>
          <p:cNvSpPr/>
          <p:nvPr/>
        </p:nvSpPr>
        <p:spPr>
          <a:xfrm>
            <a:off x="1863720" y="1339920"/>
            <a:ext cx="5575320" cy="6001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n agosto de 2013, del 12 al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1 Conector recto"/>
          <p:cNvSpPr/>
          <p:nvPr/>
        </p:nvSpPr>
        <p:spPr>
          <a:xfrm>
            <a:off x="5627520" y="2397240"/>
            <a:ext cx="79560" cy="3341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4"/>
          <p:cNvSpPr/>
          <p:nvPr/>
        </p:nvSpPr>
        <p:spPr>
          <a:xfrm>
            <a:off x="214200" y="12319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66840" y="138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4 CuadroTexto"/>
          <p:cNvSpPr/>
          <p:nvPr/>
        </p:nvSpPr>
        <p:spPr>
          <a:xfrm>
            <a:off x="876240" y="123192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Segu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2 CuadroTexto"/>
          <p:cNvSpPr/>
          <p:nvPr/>
        </p:nvSpPr>
        <p:spPr>
          <a:xfrm>
            <a:off x="876240" y="2336760"/>
            <a:ext cx="7624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  <a:ea typeface="Arial"/>
              </a:rPr>
              <a:t>4 reuniones  de Consejo Técnico Esco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n su turno y centro de trabajo resp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  <a:ea typeface="Arial"/>
              </a:rPr>
              <a:t>4 reuniones de CEB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  <a:ea typeface="Arial"/>
              </a:rPr>
              <a:t>–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  <a:ea typeface="Arial"/>
              </a:rPr>
              <a:t>C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982800" y="3875040"/>
          <a:ext cx="7704000" cy="1886040"/>
        </p:xfrm>
        <a:graphic>
          <a:graphicData uri="http://schemas.openxmlformats.org/drawingml/2006/table">
            <a:tbl>
              <a:tblPr/>
              <a:tblGrid>
                <a:gridCol w="2457360"/>
                <a:gridCol w="2685960"/>
                <a:gridCol w="256068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r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odalida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ordin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:00  – 13:00 hr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tegrados en C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sesor Académi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:00 – 15:00 hr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r escue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Consejo Técnic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rector/Supervis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18 CuadroTexto"/>
          <p:cNvSpPr/>
          <p:nvPr/>
        </p:nvSpPr>
        <p:spPr>
          <a:xfrm>
            <a:off x="630360" y="89064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Seguimiento del CEB–CTE </a:t>
            </a:r>
            <a:r>
              <a:rPr b="1" lang="es-MX" sz="2000" spc="-1" strike="noStrike">
                <a:solidFill>
                  <a:srgbClr val="800000"/>
                </a:solidFill>
                <a:latin typeface="Arial"/>
              </a:rPr>
              <a:t>(8 ses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1 CuadroTexto"/>
          <p:cNvSpPr/>
          <p:nvPr/>
        </p:nvSpPr>
        <p:spPr>
          <a:xfrm>
            <a:off x="344520" y="1414440"/>
            <a:ext cx="86803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 sesiones por Consejo Técnico Escolar (CT/nivel-moda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oordinados por el director de la escuela y/o supervi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7 de 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9 de 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8 de feb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30 de may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 sesiones en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EB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003300"/>
                </a:solidFill>
                <a:latin typeface="Arial"/>
              </a:rPr>
              <a:t>Coordinadas por el Asesor o 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5 de 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31 de en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8 de 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7 de jun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Microreg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10:32Z</dcterms:created>
  <dc:creator>Arlen</dc:creator>
  <dc:description/>
  <dc:language>en-US</dc:language>
  <cp:lastModifiedBy>Laptop001</cp:lastModifiedBy>
  <cp:lastPrinted>2013-06-06T13:03:48Z</cp:lastPrinted>
  <dcterms:modified xsi:type="dcterms:W3CDTF">2013-06-19T17:37:05Z</dcterms:modified>
  <cp:revision>400</cp:revision>
  <dc:subject/>
  <dc:title>Texto</dc:title>
</cp:coreProperties>
</file>